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10.gif" ContentType="image/gif"/>
  <Override PartName="/ppt/media/image13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-522720" y="-360"/>
            <a:ext cx="7715160" cy="578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Microsoft Sans Serif"/>
              </a:rPr>
              <a:t>Click to move the slide</a:t>
            </a:r>
            <a:endParaRPr b="1" lang="en-US" sz="40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-360" y="5902200"/>
            <a:ext cx="666900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296E-2D76-43F7-AD0D-3176BD227A1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경사면 실험의 효과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자유낙하를 느리게 연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슬로우 비디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더 자세한 관찰 가능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-522360" y="0"/>
            <a:ext cx="7715160" cy="5786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-360" y="5902200"/>
            <a:ext cx="666900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 그림 타르탈리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Tartaglia, 1499?-1557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물질의 원소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흙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물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불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공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성분비에 의해 속도 결정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갈릴레오 초기에는 밀도에 비례한다는 생각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-&gt; 1604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년이 되면 무게나 크기에 상관없이 모든 물체 동일한 속도로 낙하한다고 결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B36F-22B9-4CA7-80A2-D58C0C6F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1E3F-6495-42D7-9F2F-AC1835BC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A604-95BA-4F81-B827-F6074A61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56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34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56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34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C3CD-FA7E-404A-90C2-92B19B63E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3778-B293-4941-9447-579234FF8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DFBC-90BC-4E9D-9E4F-66ED460D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106C-D29A-4CE7-A63A-863D39EE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E829-B7D6-4B77-BBB0-B8719A32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01DD-A01A-4FA5-9A76-1419E649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EAC0-8670-400E-BDB2-419A16E5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C0BB-FE59-4765-874B-45B7458C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2760-1401-456B-8B7D-5D22E053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FB38-E24E-4DEA-B830-CF3A5E57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7A53-C90C-4845-8B7B-BB2E4DEE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0B60-109E-431D-86A4-EC6FE9AA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3B58-F010-4628-A3FB-E6FCFC9C9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256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34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12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256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34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A360-BC98-4CD5-831B-D55E80DF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95D9-79E8-4772-BA54-7FD9A4CE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A817-B28C-4349-9C85-A9990122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AC47-8375-4C2B-B01B-80D67BA0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046E-38AA-4A11-A75B-826BC2DE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F904-8C4D-4231-B2CC-2521ABD2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100C-BA93-4E4F-85A5-130136C6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8A93-4005-4C94-89DB-2B506DFD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Microsoft Sans Serif"/>
              </a:rPr>
              <a:t>Click to edit the title text format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0349-9CAF-4E4D-AB23-B1AC215F7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Microsoft Sans Serif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D42E-32D9-493D-BC4A-C47B961BE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1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org/wiki/Sidereus_Nuncius" TargetMode="External"/><Relationship Id="rId3" Type="http://schemas.openxmlformats.org/officeDocument/2006/relationships/hyperlink" Target="http://en.wikipedia.org/wiki/Sidereus_Nuncius" TargetMode="External"/><Relationship Id="rId4" Type="http://schemas.openxmlformats.org/officeDocument/2006/relationships/hyperlink" Target="http://en.wikipedia.org/wiki/Sidereus_Nuncius" TargetMode="External"/><Relationship Id="rId5" Type="http://schemas.openxmlformats.org/officeDocument/2006/relationships/hyperlink" Target="http://en.wikipedia.org/wiki/Dialogue_Concerning_the_Two_Chief_World_Systems" TargetMode="External"/><Relationship Id="rId6" Type="http://schemas.openxmlformats.org/officeDocument/2006/relationships/hyperlink" Target="http://en.wikipedia.org/wiki/Two_New_Sciences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83920"/>
            <a:ext cx="4462560" cy="8780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Microsoft Sans Serif"/>
              </a:rPr>
              <a:t>역학 혁명 </a:t>
            </a:r>
            <a:r>
              <a:rPr b="1" lang="en-US" sz="4000" spc="-1" strike="noStrike">
                <a:solidFill>
                  <a:srgbClr val="cc0000"/>
                </a:solidFill>
                <a:latin typeface="Microsoft Sans Serif"/>
              </a:rPr>
              <a:t>1: </a:t>
            </a:r>
            <a:r>
              <a:rPr b="1" lang="zh-CN" sz="4000" spc="-1" strike="noStrike">
                <a:solidFill>
                  <a:srgbClr val="cc0000"/>
                </a:solidFill>
                <a:latin typeface="Microsoft Sans Serif"/>
              </a:rPr>
              <a:t>갈릴레오</a:t>
            </a:r>
            <a:endParaRPr b="1" lang="en-US" sz="40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갈릴레오 역학의 공헌</a:t>
            </a:r>
            <a:r>
              <a:rPr b="1" lang="en-US" sz="3800" spc="-1" strike="noStrike">
                <a:solidFill>
                  <a:srgbClr val="cc0000"/>
                </a:solidFill>
                <a:latin typeface="Microsoft Sans Serif"/>
              </a:rPr>
              <a:t>(1): </a:t>
            </a: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관성 개념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1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Microsoft Sans Serif"/>
              </a:rPr>
              <a:t>관성의 법칙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Microsoft Sans Serif"/>
              </a:rPr>
              <a:t>: “</a:t>
            </a:r>
            <a:r>
              <a:rPr b="1" lang="zh-CN" sz="2200" spc="-1" strike="noStrike">
                <a:solidFill>
                  <a:srgbClr val="cc0000"/>
                </a:solidFill>
                <a:latin typeface="Microsoft Sans Serif"/>
              </a:rPr>
              <a:t>운동하는 물체는 외부에서 그 운동을 멈추게 하지 않는 한 계속 운동</a:t>
            </a: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따라서 운동을 계속하게 하는 것이 무엇인가가 아니라</a:t>
            </a: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운동을 멈추게 하는 것이 무엇인지 물어야 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cc0000"/>
                </a:solidFill>
                <a:latin typeface="Microsoft Sans Serif"/>
              </a:rPr>
              <a:t> </a:t>
            </a:r>
            <a:r>
              <a:rPr b="1" lang="zh-CN" sz="2200" spc="-1" strike="noStrike">
                <a:solidFill>
                  <a:srgbClr val="cc0000"/>
                </a:solidFill>
                <a:latin typeface="Microsoft Sans Serif"/>
              </a:rPr>
              <a:t>운동 개념 자체의 변화 </a:t>
            </a:r>
            <a:r>
              <a:rPr b="1" lang="en-US" sz="2200" spc="-1" strike="noStrike">
                <a:solidFill>
                  <a:srgbClr val="cc0000"/>
                </a:solidFill>
                <a:latin typeface="Microsoft Sans Serif"/>
              </a:rPr>
              <a:t>: </a:t>
            </a:r>
            <a:r>
              <a:rPr b="1" lang="zh-CN" sz="2200" spc="-1" strike="noStrike">
                <a:solidFill>
                  <a:srgbClr val="cc0000"/>
                </a:solidFill>
                <a:latin typeface="Microsoft Sans Serif"/>
              </a:rPr>
              <a:t>운동은 ‘과정’이 아니라 ‘상태’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Microsoft Sans Serif"/>
              </a:rPr>
              <a:t>수직으로 쏘아 올린 화살은 왜 제자리에 떨어지는가</a:t>
            </a:r>
            <a:r>
              <a:rPr b="1" lang="en-US" sz="2600" spc="-1" strike="noStrike">
                <a:solidFill>
                  <a:srgbClr val="000000"/>
                </a:solidFill>
                <a:latin typeface="Microsoft Sans Serif"/>
              </a:rPr>
              <a:t>?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A : </a:t>
            </a: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지구가 자전하지 않는 증거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지구의 운동은 공기 중의 화살에 아무런 영향을 못 미침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G : </a:t>
            </a: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화살은 쏘아 올리기 전에 이미 지구와 함께 운동하고 있었고 따라서 공중에 쏘아 올려진 화살도 원래의 지구 자전 방향 운동을 계속함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갈릴레오 역학의 공헌</a:t>
            </a:r>
            <a:r>
              <a:rPr b="1" lang="en-US" sz="3800" spc="-1" strike="noStrike">
                <a:solidFill>
                  <a:srgbClr val="cc0000"/>
                </a:solidFill>
                <a:latin typeface="Microsoft Sans Serif"/>
              </a:rPr>
              <a:t>(2): </a:t>
            </a: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운동의 상대성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2924280"/>
            <a:ext cx="7929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Microsoft Sans Serif"/>
              </a:rPr>
              <a:t>운동의 상대성</a:t>
            </a:r>
            <a:r>
              <a:rPr b="1" lang="en-US" sz="2600" spc="-1" strike="noStrike">
                <a:solidFill>
                  <a:srgbClr val="000000"/>
                </a:solidFill>
                <a:latin typeface="Microsoft Sans Serif"/>
              </a:rPr>
              <a:t>(relativity) </a:t>
            </a:r>
            <a:r>
              <a:rPr b="1" lang="zh-CN" sz="2600" spc="-1" strike="noStrike">
                <a:solidFill>
                  <a:srgbClr val="000000"/>
                </a:solidFill>
                <a:latin typeface="Microsoft Sans Serif"/>
              </a:rPr>
              <a:t>원리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44200" indent="-4057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운동은 두 물체 사이의 관계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44200" indent="-4057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운동은 운동을 하지 않는 물체에 대해서 상대적으로 나타남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44200" indent="-4057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운동을 같이 하는 물체에 대해서는 나타나지 않음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36680" indent="-436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Microsoft Sans Serif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Microsoft Sans Serif"/>
              </a:rPr>
              <a:t>지구가 돈다면</a:t>
            </a:r>
            <a:r>
              <a:rPr b="1" lang="en-US" sz="26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Microsoft Sans Serif"/>
              </a:rPr>
              <a:t>왜 사람이 이를 느끼지 못하나</a:t>
            </a:r>
            <a:r>
              <a:rPr b="1" lang="en-US" sz="2600" spc="-1" strike="noStrike">
                <a:solidFill>
                  <a:srgbClr val="000000"/>
                </a:solidFill>
                <a:latin typeface="Microsoft Sans Serif"/>
              </a:rPr>
              <a:t>?”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44200" indent="-4057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물체와 같이 운동하고 있으면 그 물체의 운동을 느끼지 못함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44200" indent="-4057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운동과 정지에 대한 새로운 설명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44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물체의 운동과 정지는 본질적으로 구분 불가능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36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760392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갈릴레오 역학의 공헌</a:t>
            </a:r>
            <a:r>
              <a:rPr b="1" lang="en-US" sz="3800" spc="-1" strike="noStrike">
                <a:solidFill>
                  <a:srgbClr val="cc0000"/>
                </a:solidFill>
                <a:latin typeface="Microsoft Sans Serif"/>
              </a:rPr>
              <a:t>(3): </a:t>
            </a: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운동의 합성과 분해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Sans Serif"/>
              </a:rPr>
              <a:t>운동의 합성 → 포물선 운동 설명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760920" y="2852640"/>
            <a:ext cx="2358720" cy="3413160"/>
            <a:chOff x="3760920" y="2852640"/>
            <a:chExt cx="2358720" cy="341316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3760920" y="2852640"/>
              <a:ext cx="2358720" cy="341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533840" y="3573360"/>
              <a:ext cx="1512360" cy="266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11280" y="2809800"/>
            <a:ext cx="2460600" cy="3529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356600" y="281160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en-US" sz="6000" spc="-1" strike="noStrike">
                <a:solidFill>
                  <a:srgbClr val="000000"/>
                </a:solidFill>
                <a:latin typeface="굴림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9640" y="3243240"/>
            <a:ext cx="9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굴림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3024360" y="3241800"/>
            <a:ext cx="93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굴림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3759120" y="2852640"/>
            <a:ext cx="2359080" cy="34131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81120" y="3429000"/>
            <a:ext cx="360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1581120" y="4797360"/>
            <a:ext cx="360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1725480" y="3645000"/>
            <a:ext cx="57636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1941480" y="4221000"/>
            <a:ext cx="720720" cy="1008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2446200" y="5084640"/>
            <a:ext cx="50328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533840" y="3500280"/>
            <a:ext cx="504720" cy="576360"/>
            <a:chOff x="4533840" y="3500280"/>
            <a:chExt cx="504720" cy="576360"/>
          </a:xfrm>
        </p:grpSpPr>
        <p:sp>
          <p:nvSpPr>
            <p:cNvPr id="136" name=""/>
            <p:cNvSpPr/>
            <p:nvPr/>
          </p:nvSpPr>
          <p:spPr>
            <a:xfrm>
              <a:off x="4533840" y="3716280"/>
              <a:ext cx="3603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78200" y="3500280"/>
              <a:ext cx="3603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462560" y="3500280"/>
            <a:ext cx="1008000" cy="1152720"/>
            <a:chOff x="4462560" y="3500280"/>
            <a:chExt cx="1008000" cy="1152720"/>
          </a:xfrm>
        </p:grpSpPr>
        <p:sp>
          <p:nvSpPr>
            <p:cNvPr id="139" name=""/>
            <p:cNvSpPr/>
            <p:nvPr/>
          </p:nvSpPr>
          <p:spPr>
            <a:xfrm>
              <a:off x="4462560" y="3860640"/>
              <a:ext cx="1008000" cy="79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94200" y="3500280"/>
              <a:ext cx="576360" cy="10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389480" y="3500280"/>
            <a:ext cx="1441440" cy="2089440"/>
            <a:chOff x="4389480" y="3500280"/>
            <a:chExt cx="1441440" cy="2089440"/>
          </a:xfrm>
        </p:grpSpPr>
        <p:sp>
          <p:nvSpPr>
            <p:cNvPr id="142" name=""/>
            <p:cNvSpPr/>
            <p:nvPr/>
          </p:nvSpPr>
          <p:spPr>
            <a:xfrm>
              <a:off x="4389480" y="4653000"/>
              <a:ext cx="1441440" cy="9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98920" y="3500280"/>
              <a:ext cx="432000" cy="129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389480" y="3500280"/>
            <a:ext cx="1657080" cy="2737080"/>
            <a:chOff x="4389480" y="3500280"/>
            <a:chExt cx="1657080" cy="2737080"/>
          </a:xfrm>
        </p:grpSpPr>
        <p:sp>
          <p:nvSpPr>
            <p:cNvPr id="145" name=""/>
            <p:cNvSpPr/>
            <p:nvPr/>
          </p:nvSpPr>
          <p:spPr>
            <a:xfrm>
              <a:off x="4389480" y="5589720"/>
              <a:ext cx="165708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86200" y="3500280"/>
              <a:ext cx="360360" cy="23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831000" y="1657440"/>
            <a:ext cx="2038320" cy="1181160"/>
            <a:chOff x="6831000" y="1657440"/>
            <a:chExt cx="2038320" cy="1181160"/>
          </a:xfrm>
        </p:grpSpPr>
        <p:pic>
          <p:nvPicPr>
            <p:cNvPr id="148" name="" descr=""/>
            <p:cNvPicPr/>
            <p:nvPr/>
          </p:nvPicPr>
          <p:blipFill>
            <a:blip r:embed="rId5"/>
            <a:stretch/>
          </p:blipFill>
          <p:spPr>
            <a:xfrm>
              <a:off x="6831000" y="1657440"/>
              <a:ext cx="203832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7643880" y="2133720"/>
              <a:ext cx="1152360" cy="36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853320" y="3745080"/>
            <a:ext cx="2038320" cy="2923920"/>
            <a:chOff x="6853320" y="3745080"/>
            <a:chExt cx="2038320" cy="2923920"/>
          </a:xfrm>
        </p:grpSpPr>
        <p:pic>
          <p:nvPicPr>
            <p:cNvPr id="151" name="" descr=""/>
            <p:cNvPicPr/>
            <p:nvPr/>
          </p:nvPicPr>
          <p:blipFill>
            <a:blip r:embed="rId6"/>
            <a:stretch/>
          </p:blipFill>
          <p:spPr>
            <a:xfrm>
              <a:off x="6853320" y="3745080"/>
              <a:ext cx="2038320" cy="29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7427880" y="4437000"/>
              <a:ext cx="503280" cy="216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6831000" y="1671480"/>
            <a:ext cx="2038320" cy="1181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643880" y="1987560"/>
            <a:ext cx="43164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7932600" y="2205000"/>
            <a:ext cx="503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292960" y="2205000"/>
            <a:ext cx="503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6853320" y="3716280"/>
            <a:ext cx="203832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356600" y="4437000"/>
            <a:ext cx="50328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7356600" y="4869000"/>
            <a:ext cx="50328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7356600" y="5734080"/>
            <a:ext cx="50328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갈릴레오와 실험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갈릴레오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실험과학의 아버지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?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marL="436680" indent="-436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갈릴레오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안락의자의 철학자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?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44200" indent="-4057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실험 수치 제시하는 경우 거의 없음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44200" indent="-4057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간혹 제시되는 수치들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오차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44200" indent="-4057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현실적으로 수행하기 힘든 실험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44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cc0000"/>
                </a:solidFill>
                <a:latin typeface="Microsoft Sans Serif"/>
              </a:rPr>
              <a:t> </a:t>
            </a:r>
            <a:r>
              <a:rPr b="1" lang="ko-KR" sz="2200" spc="-1" strike="noStrike">
                <a:solidFill>
                  <a:srgbClr val="cc0000"/>
                </a:solidFill>
                <a:latin typeface="Microsoft Sans Serif"/>
              </a:rPr>
              <a:t>갈릴레오는 실험을 수행하지 않았다</a:t>
            </a:r>
            <a:r>
              <a:rPr b="1" lang="ko-KR" sz="2200" spc="-1" strike="noStrike">
                <a:solidFill>
                  <a:srgbClr val="cc0000"/>
                </a:solidFill>
                <a:latin typeface="Microsoft Sans Serif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36680" indent="-436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실험가로서의 갈릴레오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44200" indent="-4057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드레이크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갈릴레오 실험노트 발굴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44200" indent="-4057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세틀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자유낙하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경사면 실험 재현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44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    </a:t>
            </a:r>
            <a:r>
              <a:rPr b="1" lang="ko-KR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cc0000"/>
                </a:solidFill>
                <a:latin typeface="Microsoft Sans Serif"/>
              </a:rPr>
              <a:t> </a:t>
            </a:r>
            <a:r>
              <a:rPr b="1" lang="ko-KR" sz="2200" spc="-1" strike="noStrike">
                <a:solidFill>
                  <a:srgbClr val="cc0000"/>
                </a:solidFill>
                <a:latin typeface="Microsoft Sans Serif"/>
              </a:rPr>
              <a:t>실제 실험을 했다</a:t>
            </a:r>
            <a:r>
              <a:rPr b="1" lang="ko-KR" sz="2200" spc="-1" strike="noStrike">
                <a:solidFill>
                  <a:srgbClr val="cc0000"/>
                </a:solidFill>
                <a:latin typeface="Microsoft Sans Serif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442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cc0000"/>
                </a:solidFill>
                <a:latin typeface="Microsoft Sans Serif"/>
              </a:rPr>
              <a:t>★ </a:t>
            </a:r>
            <a:r>
              <a:rPr b="0" lang="ko-KR" sz="1900" spc="-1" strike="noStrike">
                <a:solidFill>
                  <a:srgbClr val="cc0000"/>
                </a:solidFill>
                <a:latin typeface="Microsoft Sans Serif"/>
              </a:rPr>
              <a:t>	</a:t>
            </a:r>
            <a:r>
              <a:rPr b="0" lang="ko-KR" sz="1900" spc="-1" strike="noStrike">
                <a:solidFill>
                  <a:srgbClr val="cc0000"/>
                </a:solidFill>
                <a:latin typeface="Microsoft Sans Serif"/>
              </a:rPr>
              <a:t>그렇지만</a:t>
            </a:r>
            <a:r>
              <a:rPr b="0" lang="ko-KR" sz="1900" spc="-1" strike="noStrike">
                <a:solidFill>
                  <a:srgbClr val="cc0000"/>
                </a:solidFill>
                <a:latin typeface="Microsoft Sans Serif"/>
              </a:rPr>
              <a:t>, </a:t>
            </a:r>
            <a:r>
              <a:rPr b="0" lang="ko-KR" sz="1900" spc="-1" strike="noStrike">
                <a:solidFill>
                  <a:srgbClr val="cc0000"/>
                </a:solidFill>
                <a:latin typeface="Microsoft Sans Serif"/>
              </a:rPr>
              <a:t>많은 실험들은 사고실험</a:t>
            </a:r>
            <a:r>
              <a:rPr b="0" lang="ko-KR" sz="1900" spc="-1" strike="noStrike">
                <a:solidFill>
                  <a:srgbClr val="cc0000"/>
                </a:solidFill>
                <a:latin typeface="Microsoft Sans Serif"/>
              </a:rPr>
              <a:t>! </a:t>
            </a:r>
            <a:r>
              <a:rPr b="0" lang="ko-KR" sz="1900" spc="-1" strike="noStrike">
                <a:solidFill>
                  <a:srgbClr val="cc0000"/>
                </a:solidFill>
                <a:latin typeface="Microsoft Sans Serif"/>
              </a:rPr>
              <a:t>실제 한 실험도 이미 이론적으로 도달한 결론을 보여주는 ‘시연’에 가까움</a:t>
            </a: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219640" y="399960"/>
            <a:ext cx="389088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갈릴레오 역학의 성과와 한계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632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갈릴레오 역학의 성과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1)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이상적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수학적 조건 상정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2)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정확하고 논리적인 수학적 방법을 사용하여 운동을 분석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기술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3)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운동과 정지의 절대적 구분 타파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갈릴레오 역학의 한계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1)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등속원운동으로서의 관성 개념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2)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물체가 낙하하는 이유는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??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91680" indent="-39132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물체 자체의 속성 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: naturally accelerated motion </a:t>
            </a:r>
            <a:endParaRPr b="0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9168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ko-K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0" lang="ko-KR" sz="2100" spc="-1" strike="noStrike">
                <a:solidFill>
                  <a:srgbClr val="000000"/>
                </a:solidFill>
                <a:latin typeface="Microsoft Sans Serif"/>
              </a:rPr>
              <a:t>낙하 운동에만 한정</a:t>
            </a:r>
            <a:endParaRPr b="0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갈릴레오의 한계는 데카르트 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/ 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호이겐스 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/ 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뉴턴에 의해 극복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직선 관성 운동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/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원 운동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/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중력에 의한 자유낙하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부록</a:t>
            </a: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: </a:t>
            </a: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갈릴레오의 초기 역학과 임페투스 이론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상승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낙하 운동의 설명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: v ∝ Impetus - Gravitas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상승의 원인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임페투스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impetus) &gt;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무거움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gravitas)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상승의 감속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임페투스의 점진적 소진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정점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임페투스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=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무거움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낙하의 원인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임페투스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&lt;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무거움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낙하의 가속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임페투스의 점진적 소진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즉</a:t>
            </a: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, </a:t>
            </a: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임페투스</a:t>
            </a: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(impetus)</a:t>
            </a: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와 무거움</a:t>
            </a: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(gravitas) </a:t>
            </a: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사이의 합성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임페투스는 정점에서 </a:t>
            </a: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0</a:t>
            </a: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이 되지 않음</a:t>
            </a:r>
            <a:r>
              <a:rPr b="1" lang="ko-KR" sz="2600" spc="-1" strike="noStrike">
                <a:solidFill>
                  <a:srgbClr val="cc0000"/>
                </a:solidFill>
                <a:latin typeface="Microsoft Sans Serif"/>
              </a:rPr>
              <a:t>!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그렇다면 그 상태에서 수평방향으로 운동을 시킨다면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??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강제적이지도 자연적이지도 않지만 항구적으로 운동하는 중간적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(intermediate) 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운동 가능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부록</a:t>
            </a:r>
            <a:r>
              <a:rPr b="1" lang="en-US" sz="3800" spc="-1" strike="noStrike">
                <a:solidFill>
                  <a:srgbClr val="cc0000"/>
                </a:solidFill>
                <a:latin typeface="Microsoft Sans Serif"/>
              </a:rPr>
              <a:t>: </a:t>
            </a: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갈릴레오의 초기 역학과 아르키메데스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중세의 몇몇 논변가들</a:t>
            </a:r>
            <a:endParaRPr b="1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낙하속도는 물체의 </a:t>
            </a:r>
            <a:r>
              <a:rPr b="0" lang="ko-KR" sz="2000" spc="-1" strike="noStrike">
                <a:solidFill>
                  <a:srgbClr val="cc0000"/>
                </a:solidFill>
                <a:latin typeface="Microsoft Sans Serif"/>
              </a:rPr>
              <a:t>원소성분비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에 의존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91680" indent="-391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cc0000"/>
                </a:solidFill>
                <a:latin typeface="Microsoft Sans Serif"/>
              </a:rPr>
              <a:t>원소성분비가 같은 두 물체는 같은 속도로 낙하</a:t>
            </a:r>
            <a:r>
              <a:rPr b="0" lang="ko-KR" sz="1800" spc="-1" strike="noStrike">
                <a:solidFill>
                  <a:srgbClr val="cc0000"/>
                </a:solidFill>
                <a:latin typeface="Microsoft Sans Serif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91680" indent="-391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cc0000"/>
                </a:solidFill>
                <a:latin typeface="Microsoft Sans Serif"/>
              </a:rPr>
              <a:t>진공 중에서도 무한대의 속도 가지지 않음</a:t>
            </a:r>
            <a:r>
              <a:rPr b="0" lang="ko-KR" sz="1800" spc="-1" strike="noStrike">
                <a:solidFill>
                  <a:srgbClr val="cc0000"/>
                </a:solidFill>
                <a:latin typeface="Microsoft Sans Serif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갈릴레오의 초기 낙하운동 법칙</a:t>
            </a:r>
            <a:endParaRPr b="1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아르키메데스의 영향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물체와 매질의 밀도 차이 관계식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9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cc0000"/>
                </a:solidFill>
                <a:latin typeface="Microsoft Sans Serif"/>
              </a:rPr>
              <a:t>v ∝ (d-d</a:t>
            </a:r>
            <a:r>
              <a:rPr b="0" lang="ko-KR" sz="1800" spc="-1" strike="noStrike" baseline="-25000">
                <a:solidFill>
                  <a:srgbClr val="cc0000"/>
                </a:solidFill>
                <a:latin typeface="Microsoft Sans Serif"/>
              </a:rPr>
              <a:t>m</a:t>
            </a:r>
            <a:r>
              <a:rPr b="0" lang="ko-KR" sz="1800" spc="-1" strike="noStrike">
                <a:solidFill>
                  <a:srgbClr val="cc0000"/>
                </a:solidFill>
                <a:latin typeface="Microsoft Sans Serif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 (d: 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물체의 밀도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, d</a:t>
            </a:r>
            <a:r>
              <a:rPr b="0" lang="ko-KR" sz="1800" spc="-1" strike="noStrike" baseline="-25000">
                <a:solidFill>
                  <a:srgbClr val="000000"/>
                </a:solidFill>
                <a:latin typeface="Microsoft Sans Serif"/>
              </a:rPr>
              <a:t>m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매질의 밀도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) (e.g. 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물과 나무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만약 매질의 밀도가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이 되는 진공에서 낙하시킨다면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91680" indent="-391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낙하속도는 물체의 밀도에만 비례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91680" indent="-391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cc0000"/>
                </a:solidFill>
                <a:latin typeface="Microsoft Sans Serif"/>
              </a:rPr>
              <a:t>밀도가 같은 물체는 같은 속도로 낙하</a:t>
            </a:r>
            <a:r>
              <a:rPr b="0" lang="ko-KR" sz="1800" spc="-1" strike="noStrike">
                <a:solidFill>
                  <a:srgbClr val="cc0000"/>
                </a:solidFill>
                <a:latin typeface="Microsoft Sans Serif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점차적인 변화</a:t>
            </a:r>
            <a:endParaRPr b="1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모든 물체는 한 가지의 물질입자들로 구성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91680" indent="-391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물체마다의 성질과 밀도 차이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입자들의 조밀성 차이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Microsoft Sans Serif"/>
              </a:rPr>
              <a:t>따라서 “진공 하에서 모든 물체는 같은 속도를 가져야 함” </a:t>
            </a:r>
            <a:r>
              <a:rPr b="0" lang="ko-KR" sz="2000" spc="-1" strike="noStrike">
                <a:solidFill>
                  <a:srgbClr val="cc0000"/>
                </a:solidFill>
                <a:latin typeface="Microsoft Sans Serif"/>
              </a:rPr>
              <a:t>(1604)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역학</a:t>
            </a:r>
            <a:r>
              <a:rPr b="1" lang="en-US" sz="3800" spc="-1" strike="noStrike">
                <a:solidFill>
                  <a:srgbClr val="cc0000"/>
                </a:solidFill>
                <a:latin typeface="Microsoft Sans Serif"/>
              </a:rPr>
              <a:t>: Before and After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11280" y="1197000"/>
          <a:ext cx="7920000" cy="2868480"/>
        </p:xfrm>
        <a:graphic>
          <a:graphicData uri="http://schemas.openxmlformats.org/drawingml/2006/table">
            <a:tbl>
              <a:tblPr/>
              <a:tblGrid>
                <a:gridCol w="1944720"/>
                <a:gridCol w="2987640"/>
                <a:gridCol w="29876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1500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년 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1700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년 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학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아리스토텔레스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→ 스콜라철학자들→ 갈릴레오→ 데카르트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뉴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설명의 대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운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운동의 변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운동의 원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외부의 작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필요 없음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(∵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관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운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정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엄격한 구분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과정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상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기준틀에 따라 상대적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(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상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자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강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엄격한 구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구분 없음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힘의 합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천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지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엄격한 구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Sans Serif"/>
                          <a:ea typeface="가는각진제목체"/>
                        </a:rPr>
                        <a:t>구분 없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26920" y="4292640"/>
            <a:ext cx="3748320" cy="2425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148360" y="4238640"/>
            <a:ext cx="331776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중세 운동이론의 발전</a:t>
            </a:r>
            <a:r>
              <a:rPr b="1" lang="en-US" sz="3800" spc="-1" strike="noStrike">
                <a:solidFill>
                  <a:srgbClr val="cc0000"/>
                </a:solidFill>
                <a:latin typeface="Microsoft Sans Serif"/>
              </a:rPr>
              <a:t>: V∝ F/R</a:t>
            </a: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의 개량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아리스토텔레스 운동이론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V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∝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F/R →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문제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F&lt;R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일 경우에도 속도를 가짐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V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∝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F-R) →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음의 속도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?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여전히 문제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브래드워딘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(1325-1382)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의 제안 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(Merton College)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일단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V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∝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F/R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에서 출발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. F&gt;R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이어서 운동이 시작되는 경우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운동하는 물체의 속도를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1/2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로 줄이려면 </a:t>
            </a:r>
            <a:r>
              <a:rPr b="0" lang="ko-KR" sz="2200" spc="-1" strike="noStrike">
                <a:solidFill>
                  <a:srgbClr val="000099"/>
                </a:solidFill>
                <a:latin typeface="Microsoft Sans Serif"/>
              </a:rPr>
              <a:t>(F/R)</a:t>
            </a:r>
            <a:r>
              <a:rPr b="0" lang="ko-KR" sz="2200" spc="-1" strike="noStrike" baseline="30000">
                <a:solidFill>
                  <a:srgbClr val="000099"/>
                </a:solidFill>
                <a:latin typeface="Microsoft Sans Serif"/>
              </a:rPr>
              <a:t>1/2  </a:t>
            </a:r>
            <a:r>
              <a:rPr b="0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 1/2V 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운동하는 물체의 속도를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1/3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로 줄이려면 </a:t>
            </a:r>
            <a:r>
              <a:rPr b="0" lang="ko-KR" sz="2200" spc="-1" strike="noStrike">
                <a:solidFill>
                  <a:srgbClr val="000099"/>
                </a:solidFill>
                <a:latin typeface="Microsoft Sans Serif"/>
              </a:rPr>
              <a:t>(F/R)</a:t>
            </a:r>
            <a:r>
              <a:rPr b="0" lang="ko-KR" sz="2200" spc="-1" strike="noStrike" baseline="30000">
                <a:solidFill>
                  <a:srgbClr val="000099"/>
                </a:solidFill>
                <a:latin typeface="Microsoft Sans Serif"/>
              </a:rPr>
              <a:t>1/3  </a:t>
            </a:r>
            <a:r>
              <a:rPr b="0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 1/3V  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운동하는 물체의 속도를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배로 키우려면 </a:t>
            </a:r>
            <a:r>
              <a:rPr b="0" lang="ko-KR" sz="2200" spc="-1" strike="noStrike">
                <a:solidFill>
                  <a:srgbClr val="000099"/>
                </a:solidFill>
                <a:latin typeface="Microsoft Sans Serif"/>
              </a:rPr>
              <a:t>(F/R)</a:t>
            </a:r>
            <a:r>
              <a:rPr b="0" lang="ko-KR" sz="2200" spc="-1" strike="noStrike" baseline="30000">
                <a:solidFill>
                  <a:srgbClr val="000099"/>
                </a:solidFill>
                <a:latin typeface="Microsoft Sans Serif"/>
              </a:rPr>
              <a:t>2     </a:t>
            </a:r>
            <a:r>
              <a:rPr b="0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 2V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결국 </a:t>
            </a:r>
            <a:r>
              <a:rPr b="1" lang="ko-KR" sz="2200" spc="-1" strike="noStrike">
                <a:solidFill>
                  <a:srgbClr val="cc0000"/>
                </a:solidFill>
                <a:latin typeface="Microsoft Sans Serif"/>
              </a:rPr>
              <a:t>V∝ log(F/R) (</a:t>
            </a:r>
            <a:r>
              <a:rPr b="1" lang="ko-KR" sz="2200" spc="-1" strike="noStrike">
                <a:solidFill>
                  <a:srgbClr val="cc0000"/>
                </a:solidFill>
                <a:latin typeface="Microsoft Sans Serif"/>
              </a:rPr>
              <a:t>단</a:t>
            </a:r>
            <a:r>
              <a:rPr b="1" lang="ko-KR" sz="2200" spc="-1" strike="noStrike">
                <a:solidFill>
                  <a:srgbClr val="cc0000"/>
                </a:solidFill>
                <a:latin typeface="Microsoft Sans Serif"/>
              </a:rPr>
              <a:t>, F≥R)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중세 운동이론의 발전</a:t>
            </a:r>
            <a:r>
              <a:rPr b="1" lang="en-US" sz="3800" spc="-1" strike="noStrike">
                <a:solidFill>
                  <a:srgbClr val="cc0000"/>
                </a:solidFill>
                <a:latin typeface="Microsoft Sans Serif"/>
              </a:rPr>
              <a:t>: </a:t>
            </a: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투사체에 대한 이론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아리스토텔레스 운동 이론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외부의 작용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(Mover) 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필요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그런데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활을 떠난 화살은 어떻게 움직이나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  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아리스토텔레스의 설명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: ‘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공기’가 밀어준다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 </a:t>
            </a:r>
            <a:r>
              <a:rPr b="0" lang="ko-KR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 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그렇다면 화살의 끝이 평평한 화살이 더 힘을 잘 받아야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 </a:t>
            </a:r>
            <a:r>
              <a:rPr b="0" lang="ko-KR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 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팽이는 어떻게 계속 돌 수 있나</a:t>
            </a:r>
            <a:r>
              <a:rPr b="0" lang="ko-KR" sz="2200" spc="-1" strike="noStrike">
                <a:solidFill>
                  <a:srgbClr val="cc0000"/>
                </a:solidFill>
                <a:latin typeface="Microsoft Sans Serif"/>
              </a:rPr>
              <a:t>? 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*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이러한 문제 때문에 임페투스라는 “내부의 운동원인” 상정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장 뷰리당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(1300-1358)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의 임페투스 이론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처음 운동원인은 임페투스를 물체에 전달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임페투스의 크기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=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질량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x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속력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즉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mv (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운동량과 크기는 같지만…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임페투스가 점점 소진되어 정지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여전히 자연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gravitas) vs.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강제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impetus)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구분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중세 운동이론의 발전</a:t>
            </a:r>
            <a:r>
              <a:rPr b="1" lang="en-US" sz="3800" spc="-1" strike="noStrike">
                <a:solidFill>
                  <a:srgbClr val="cc0000"/>
                </a:solidFill>
                <a:latin typeface="Microsoft Sans Serif"/>
              </a:rPr>
              <a:t>: </a:t>
            </a: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운동의 기술</a:t>
            </a:r>
            <a:r>
              <a:rPr b="1" lang="en-US" sz="3800" spc="-1" strike="noStrike">
                <a:solidFill>
                  <a:srgbClr val="cc0000"/>
                </a:solidFill>
                <a:latin typeface="Microsoft Sans Serif"/>
              </a:rPr>
              <a:t>(</a:t>
            </a: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記述</a:t>
            </a:r>
            <a:r>
              <a:rPr b="1" lang="en-US" sz="3800" spc="-1" strike="noStrike">
                <a:solidFill>
                  <a:srgbClr val="cc0000"/>
                </a:solidFill>
                <a:latin typeface="Microsoft Sans Serif"/>
              </a:rPr>
              <a:t>)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53258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영국 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Merton College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의 학자들</a:t>
            </a:r>
            <a:endParaRPr b="1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운동에 대한 기하학적 기술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가로축에 시간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세로축에 속도를 표현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그래프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속도’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순간 속도’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평균 속도’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균질한 운동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등속 운동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)’, ‘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균일하게 비균질한 운동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등가속 운동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)’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등의 개념 고안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오렘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(1323-1382)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의 평균속도 정리 및 증명</a:t>
            </a:r>
            <a:endParaRPr b="1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균일하게 비균질한 운동’을 하는 물체가 움직인 거리를 그 평균속도로 ‘균질하게 운동’할 때의 거리로 환산</a:t>
            </a:r>
            <a:endParaRPr b="1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실제 운동에 적용하진 않음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!</a:t>
            </a:r>
            <a:endParaRPr b="1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원인에 대한 무관심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. 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현상만 기술</a:t>
            </a:r>
            <a:endParaRPr b="1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973840" y="1535040"/>
            <a:ext cx="256860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갈릴레오</a:t>
            </a: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(Galileo Galilei, 1564-1642)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4752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피사 대학의 수학 교수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1588-1592)</a:t>
            </a:r>
            <a:endParaRPr b="1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파도바 대학의 수학 교수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1592-1610)</a:t>
            </a:r>
            <a:endParaRPr b="1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초기 역학 연구 노트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i="1" lang="ko-KR" sz="2000" spc="-1" strike="noStrike">
                <a:solidFill>
                  <a:srgbClr val="000000"/>
                </a:solidFill>
                <a:latin typeface="Microsoft Sans Serif"/>
              </a:rPr>
              <a:t>De Motu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 (1590s)</a:t>
            </a:r>
            <a:endParaRPr b="1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336699"/>
                </a:solidFill>
                <a:uFillTx/>
                <a:latin typeface="Microsoft Sans Serif"/>
                <a:hlinkClick r:id="rId2"/>
              </a:rPr>
              <a:t>Sidereus</a:t>
            </a:r>
            <a:r>
              <a:rPr b="0" lang="ko-KR" sz="2000" spc="-1" strike="noStrike" u="sng">
                <a:solidFill>
                  <a:srgbClr val="336699"/>
                </a:solidFill>
                <a:uFillTx/>
                <a:latin typeface="Microsoft Sans Serif"/>
                <a:hlinkClick r:id="rId3"/>
              </a:rPr>
              <a:t> </a:t>
            </a:r>
            <a:r>
              <a:rPr b="0" lang="ko-KR" sz="2000" spc="-1" strike="noStrike" u="sng">
                <a:solidFill>
                  <a:srgbClr val="336699"/>
                </a:solidFill>
                <a:uFillTx/>
                <a:latin typeface="Microsoft Sans Serif"/>
                <a:hlinkClick r:id="rId4"/>
              </a:rPr>
              <a:t>Nuncius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 (1610)</a:t>
            </a:r>
            <a:endParaRPr b="1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메디치가의 철학자 겸 수학자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1610-1633)</a:t>
            </a:r>
            <a:endParaRPr b="1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336699"/>
                </a:solidFill>
                <a:uFillTx/>
                <a:latin typeface="Microsoft Sans Serif"/>
                <a:hlinkClick r:id="rId5"/>
              </a:rPr>
              <a:t>Dialogue Concerning the Two Chief World Systems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 (1632)</a:t>
            </a:r>
            <a:endParaRPr b="1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종교재판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1633)</a:t>
            </a:r>
            <a:endParaRPr b="1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역학 연구 매진</a:t>
            </a:r>
            <a:endParaRPr b="1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336699"/>
                </a:solidFill>
                <a:uFillTx/>
                <a:latin typeface="Microsoft Sans Serif"/>
                <a:hlinkClick r:id="rId6"/>
              </a:rPr>
              <a:t>Two New Sciences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 (1638)</a:t>
            </a:r>
            <a:endParaRPr b="1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5332320" y="1484280"/>
            <a:ext cx="30369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갈릴레오의 초기 역학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92936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갈릴레오의 초기 역학 연구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피사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파도바 대학 강사시절 습작 노트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&lt;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운동에 관하여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&gt;(</a:t>
            </a:r>
            <a:r>
              <a:rPr b="1" i="1" lang="ko-KR" sz="2200" spc="-1" strike="noStrike">
                <a:solidFill>
                  <a:srgbClr val="000000"/>
                </a:solidFill>
                <a:latin typeface="Microsoft Sans Serif"/>
              </a:rPr>
              <a:t>De Motu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,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 1590s)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1" lang="ko-KR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cc0000"/>
                </a:solidFill>
                <a:latin typeface="Microsoft Sans Serif"/>
              </a:rPr>
              <a:t> </a:t>
            </a:r>
            <a:r>
              <a:rPr b="1" lang="ko-KR" sz="2200" spc="-1" strike="noStrike">
                <a:solidFill>
                  <a:srgbClr val="cc0000"/>
                </a:solidFill>
                <a:latin typeface="Microsoft Sans Serif"/>
              </a:rPr>
              <a:t>사고실험을 통해 아리스토텔레스 역학의 논리적 모순 비판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11280" y="3357720"/>
            <a:ext cx="2619360" cy="3093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419640" y="3357720"/>
            <a:ext cx="2619360" cy="3093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6156360" y="3357720"/>
            <a:ext cx="261936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갈릴레오의 낙하 법칙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1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Microsoft Sans Serif"/>
              </a:rPr>
              <a:t>힘</a:t>
            </a:r>
            <a:r>
              <a:rPr b="1" lang="en-US" sz="22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Microsoft Sans Serif"/>
              </a:rPr>
              <a:t>저항</a:t>
            </a:r>
            <a:r>
              <a:rPr b="1" lang="en-US" sz="22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Microsoft Sans Serif"/>
              </a:rPr>
              <a:t>속도 사이의 관계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Microsoft Sans Serif"/>
              </a:rPr>
              <a:t> 자유낙하의 법칙</a:t>
            </a:r>
            <a:endParaRPr b="1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Microsoft Sans Serif"/>
              </a:rPr>
              <a:t>   </a:t>
            </a:r>
            <a:r>
              <a:rPr b="0" lang="en-US" sz="2000" spc="-1" strike="noStrike">
                <a:solidFill>
                  <a:srgbClr val="cc0000"/>
                </a:solidFill>
                <a:latin typeface="Microsoft Sans Serif"/>
              </a:rPr>
              <a:t>: </a:t>
            </a:r>
            <a:r>
              <a:rPr b="1" lang="en-US" sz="2000" spc="-1" strike="noStrike">
                <a:solidFill>
                  <a:srgbClr val="cc0000"/>
                </a:solidFill>
                <a:latin typeface="Microsoft Sans Serif"/>
              </a:rPr>
              <a:t>“</a:t>
            </a:r>
            <a:r>
              <a:rPr b="1" lang="zh-CN" sz="2000" spc="-1" strike="noStrike">
                <a:solidFill>
                  <a:srgbClr val="cc0000"/>
                </a:solidFill>
                <a:latin typeface="Microsoft Sans Serif"/>
              </a:rPr>
              <a:t>모든 물체는 무게와 크기에 상관없이 동일한 속도로 낙하한다” </a:t>
            </a:r>
            <a:r>
              <a:rPr b="1" lang="en-US" sz="2000" spc="-1" strike="noStrike">
                <a:solidFill>
                  <a:srgbClr val="cc0000"/>
                </a:solidFill>
                <a:latin typeface="Microsoft Sans Serif"/>
              </a:rPr>
              <a:t>(1604</a:t>
            </a:r>
            <a:r>
              <a:rPr b="1" lang="zh-CN" sz="2000" spc="-1" strike="noStrike">
                <a:solidFill>
                  <a:srgbClr val="cc0000"/>
                </a:solidFill>
                <a:latin typeface="Microsoft Sans Serif"/>
              </a:rPr>
              <a:t>년</a:t>
            </a:r>
            <a:r>
              <a:rPr b="1" lang="en-US" sz="2000" spc="-1" strike="noStrike">
                <a:solidFill>
                  <a:srgbClr val="cc0000"/>
                </a:solidFill>
                <a:latin typeface="Microsoft Sans Serif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Sans Serif"/>
              </a:rPr>
              <a:t>낙체의 속도는 무게에 비례하는 것이 아니라 시간에 비례할 것이라는 믿음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 실험보다는 이론적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Microsoft Sans Serif"/>
              </a:rPr>
              <a:t>추상적 사고 통해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(1) v∝ t </a:t>
            </a:r>
            <a:r>
              <a:rPr b="0" lang="zh-CN" sz="1900" spc="-1" strike="noStrike">
                <a:solidFill>
                  <a:srgbClr val="000000"/>
                </a:solidFill>
                <a:latin typeface="Microsoft Sans Serif"/>
              </a:rPr>
              <a:t>가정 </a:t>
            </a: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zh-CN" sz="1900" spc="-1" strike="noStrike">
                <a:solidFill>
                  <a:srgbClr val="000000"/>
                </a:solidFill>
                <a:latin typeface="Microsoft Sans Serif"/>
              </a:rPr>
              <a:t>속도는 낙하시간에 비례하여 증가</a:t>
            </a: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(2) </a:t>
            </a:r>
            <a:r>
              <a:rPr b="0" lang="zh-CN" sz="1900" spc="-1" strike="noStrike">
                <a:solidFill>
                  <a:srgbClr val="000000"/>
                </a:solidFill>
                <a:latin typeface="Microsoft Sans Serif"/>
              </a:rPr>
              <a:t>시간당 이동거리 </a:t>
            </a: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:  1    3    5     7     9    11 . . . </a:t>
            </a: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(3) </a:t>
            </a:r>
            <a:r>
              <a:rPr b="0" lang="zh-CN" sz="1900" spc="-1" strike="noStrike">
                <a:solidFill>
                  <a:srgbClr val="000000"/>
                </a:solidFill>
                <a:latin typeface="Microsoft Sans Serif"/>
              </a:rPr>
              <a:t>누적    이동거리 </a:t>
            </a: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:  1    4    9   16    25   36 . . .</a:t>
            </a: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(4) </a:t>
            </a:r>
            <a:r>
              <a:rPr b="0" lang="zh-CN" sz="1900" spc="-1" strike="noStrike">
                <a:solidFill>
                  <a:srgbClr val="000000"/>
                </a:solidFill>
                <a:latin typeface="Microsoft Sans Serif"/>
              </a:rPr>
              <a:t>결국 </a:t>
            </a: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s∝ t</a:t>
            </a:r>
            <a:r>
              <a:rPr b="0" lang="en-US" sz="1900" spc="-1" strike="noStrike" baseline="30000">
                <a:solidFill>
                  <a:srgbClr val="000000"/>
                </a:solidFill>
                <a:latin typeface="Microsoft Sans Serif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 : </a:t>
            </a:r>
            <a:r>
              <a:rPr b="1" lang="en-US" sz="1900" spc="-1" strike="noStrike">
                <a:solidFill>
                  <a:srgbClr val="cc0000"/>
                </a:solidFill>
                <a:latin typeface="Microsoft Sans Serif"/>
              </a:rPr>
              <a:t>“</a:t>
            </a:r>
            <a:r>
              <a:rPr b="1" lang="zh-CN" sz="1900" spc="-1" strike="noStrike">
                <a:solidFill>
                  <a:srgbClr val="cc0000"/>
                </a:solidFill>
                <a:latin typeface="Microsoft Sans Serif"/>
              </a:rPr>
              <a:t>물체의 낙하거리는 시간의 제곱에 비례한다”</a:t>
            </a:r>
            <a:r>
              <a:rPr b="1" lang="en-US" sz="1900" spc="-1" strike="noStrike">
                <a:solidFill>
                  <a:srgbClr val="cc0000"/>
                </a:solidFill>
                <a:latin typeface="Microsoft Sans Serif"/>
              </a:rPr>
              <a:t>(1633</a:t>
            </a:r>
            <a:r>
              <a:rPr b="1" lang="zh-CN" sz="1900" spc="-1" strike="noStrike">
                <a:solidFill>
                  <a:srgbClr val="cc0000"/>
                </a:solidFill>
                <a:latin typeface="Microsoft Sans Serif"/>
              </a:rPr>
              <a:t>년</a:t>
            </a:r>
            <a:r>
              <a:rPr b="1" lang="en-US" sz="1900" spc="-1" strike="noStrike">
                <a:solidFill>
                  <a:srgbClr val="cc0000"/>
                </a:solidFill>
                <a:latin typeface="Microsoft Sans Serif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Microsoft Sans Serif"/>
              </a:rPr>
              <a:t>갈릴레오 초기 역학 연구의 특징</a:t>
            </a:r>
            <a:endParaRPr b="1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Microsoft Sans Serif"/>
              </a:rPr>
              <a:t>역학</a:t>
            </a:r>
            <a:r>
              <a:rPr b="1" lang="en-US" sz="2000" spc="-1" strike="noStrike">
                <a:solidFill>
                  <a:srgbClr val="cc0000"/>
                </a:solidFill>
                <a:latin typeface="Microsoft Sans Serif"/>
              </a:rPr>
              <a:t>(</a:t>
            </a:r>
            <a:r>
              <a:rPr b="1" lang="zh-CN" sz="2000" spc="-1" strike="noStrike">
                <a:solidFill>
                  <a:srgbClr val="cc0000"/>
                </a:solidFill>
                <a:latin typeface="Microsoft Sans Serif"/>
              </a:rPr>
              <a:t>자연철학</a:t>
            </a:r>
            <a:r>
              <a:rPr b="1" lang="en-US" sz="2000" spc="-1" strike="noStrike">
                <a:solidFill>
                  <a:srgbClr val="cc0000"/>
                </a:solidFill>
                <a:latin typeface="Microsoft Sans Serif"/>
              </a:rPr>
              <a:t>)</a:t>
            </a:r>
            <a:r>
              <a:rPr b="1" lang="zh-CN" sz="2000" spc="-1" strike="noStrike">
                <a:solidFill>
                  <a:srgbClr val="cc0000"/>
                </a:solidFill>
                <a:latin typeface="Microsoft Sans Serif"/>
              </a:rPr>
              <a:t>의 목표 변경</a:t>
            </a:r>
            <a:r>
              <a:rPr b="1" lang="en-US" sz="2000" spc="-1" strike="noStrike">
                <a:solidFill>
                  <a:srgbClr val="cc0000"/>
                </a:solidFill>
                <a:latin typeface="Microsoft Sans Serif"/>
              </a:rPr>
              <a:t>: Why </a:t>
            </a:r>
            <a:r>
              <a:rPr b="1" lang="en-US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cc0000"/>
                </a:solidFill>
                <a:latin typeface="Microsoft Sans Serif"/>
              </a:rPr>
              <a:t> How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Sans Serif"/>
              </a:rPr>
              <a:t>운동의 원인이나 목적을 밝혀내는 것이 아니라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Microsoft Sans Serif"/>
              </a:rPr>
              <a:t>운동 자체를 정확히 기술하는 것에 주력해야…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Sans Serif"/>
              </a:rPr>
              <a:t>피사 사탑 실험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갈릴레오의 역학 혁명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1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&lt;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두 가지 새로운 과학에 관한 논의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&gt; (1638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년</a:t>
            </a: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종교재판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1633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이후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초기의 역학 연구 재검토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&lt;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새로운 두 과학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&gt;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출간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자신의 역학 연구 집대성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베네치아 병기창에서 진행되는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일간의 대화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심플리치오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아리스토텔레스주의자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): </a:t>
            </a:r>
            <a:r>
              <a:rPr b="0" lang="ko-KR" sz="1900" spc="-1" strike="noStrike" u="sng">
                <a:solidFill>
                  <a:srgbClr val="cc0000"/>
                </a:solidFill>
                <a:uFillTx/>
                <a:latin typeface="Microsoft Sans Serif"/>
              </a:rPr>
              <a:t>갈릴레오의 초기 모습</a:t>
            </a: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사그레도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합리적인 아마추어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): </a:t>
            </a:r>
            <a:r>
              <a:rPr b="0" lang="ko-KR" sz="1900" spc="-1" strike="noStrike" u="sng">
                <a:solidFill>
                  <a:srgbClr val="cc0000"/>
                </a:solidFill>
                <a:uFillTx/>
                <a:latin typeface="Microsoft Sans Serif"/>
              </a:rPr>
              <a:t>아르키메데스에 심취한 갈릴레오</a:t>
            </a: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살비아티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갈릴레오의 대변인</a:t>
            </a:r>
            <a:r>
              <a:rPr b="0" lang="ko-KR" sz="1900" spc="-1" strike="noStrike">
                <a:solidFill>
                  <a:srgbClr val="000000"/>
                </a:solidFill>
                <a:latin typeface="Microsoft Sans Serif"/>
              </a:rPr>
              <a:t>): </a:t>
            </a:r>
            <a:r>
              <a:rPr b="0" lang="ko-KR" sz="1900" spc="-1" strike="noStrike" u="sng">
                <a:solidFill>
                  <a:srgbClr val="cc0000"/>
                </a:solidFill>
                <a:uFillTx/>
                <a:latin typeface="Microsoft Sans Serif"/>
              </a:rPr>
              <a:t>말년의 갈릴레오</a:t>
            </a: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cc0000"/>
                </a:solidFill>
                <a:latin typeface="Microsoft Sans Serif"/>
              </a:rPr>
              <a:t> </a:t>
            </a:r>
            <a:r>
              <a:rPr b="1" lang="ko-KR" sz="2000" spc="-1" strike="noStrike">
                <a:solidFill>
                  <a:srgbClr val="cc0000"/>
                </a:solidFill>
                <a:latin typeface="Microsoft Sans Serif"/>
              </a:rPr>
              <a:t>역학에 대한 완숙한 견해에 도달할 때까지의 연대기적 단계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Microsoft Sans Serif"/>
              </a:rPr>
              <a:t>갈릴레오의 말기 역학 연구의 특징</a:t>
            </a:r>
            <a:endParaRPr b="1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신학적으로 논란의 소지가 적은 역학 연구에 몰두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실제 목적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?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태양중심 우주체계를 받아들일 때 생기는 역학적 문제들 해결하기 위해 노력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Microsoft Sans Serif"/>
              </a:rPr>
              <a:t>갈릴레오의 세 가지 운동 원리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cc0000"/>
                </a:solidFill>
                <a:latin typeface="Microsoft Sans Serif"/>
              </a:rPr>
              <a:t>   </a:t>
            </a:r>
            <a:r>
              <a:rPr b="1" lang="ko-KR" sz="2000" spc="-1" strike="noStrike">
                <a:solidFill>
                  <a:srgbClr val="cc0000"/>
                </a:solidFill>
                <a:latin typeface="Microsoft Sans Serif"/>
              </a:rPr>
              <a:t>(1)</a:t>
            </a:r>
            <a:r>
              <a:rPr b="1" lang="ko-KR" sz="2000" spc="-1" strike="noStrike">
                <a:solidFill>
                  <a:srgbClr val="cc0000"/>
                </a:solidFill>
                <a:latin typeface="Microsoft Sans Serif"/>
              </a:rPr>
              <a:t>관성의 법칙 </a:t>
            </a:r>
            <a:r>
              <a:rPr b="1" lang="ko-KR" sz="2000" spc="-1" strike="noStrike">
                <a:solidFill>
                  <a:srgbClr val="cc0000"/>
                </a:solidFill>
                <a:latin typeface="Microsoft Sans Serif"/>
              </a:rPr>
              <a:t>/ (2)</a:t>
            </a:r>
            <a:r>
              <a:rPr b="1" lang="ko-KR" sz="2000" spc="-1" strike="noStrike">
                <a:solidFill>
                  <a:srgbClr val="cc0000"/>
                </a:solidFill>
                <a:latin typeface="Microsoft Sans Serif"/>
              </a:rPr>
              <a:t>운동의 상대성 원리 </a:t>
            </a:r>
            <a:r>
              <a:rPr b="1" lang="ko-KR" sz="2000" spc="-1" strike="noStrike">
                <a:solidFill>
                  <a:srgbClr val="cc0000"/>
                </a:solidFill>
                <a:latin typeface="Microsoft Sans Serif"/>
              </a:rPr>
              <a:t>/ (3)</a:t>
            </a:r>
            <a:r>
              <a:rPr b="1" lang="ko-KR" sz="2000" spc="-1" strike="noStrike">
                <a:solidFill>
                  <a:srgbClr val="cc0000"/>
                </a:solidFill>
                <a:latin typeface="Microsoft Sans Serif"/>
              </a:rPr>
              <a:t>운동의 합성과 분해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4:20:15Z</dcterms:created>
  <dc:creator>Woogie</dc:creator>
  <dc:description/>
  <dc:language>en-US</dc:language>
  <cp:lastModifiedBy>Woogie</cp:lastModifiedBy>
  <dcterms:modified xsi:type="dcterms:W3CDTF">2007-07-18T07:07:59Z</dcterms:modified>
  <cp:revision>23</cp:revision>
  <dc:subject/>
  <dc:title>중세 유럽의 과학</dc:title>
</cp:coreProperties>
</file>